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725753"/>
        <c:axId val="51693977"/>
      </c:barChart>
      <c:catAx>
        <c:axId val="647257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693977"/>
        <c:crosses val="autoZero"/>
        <c:auto val="1"/>
        <c:lblAlgn val="ctr"/>
        <c:lblOffset val="100"/>
        <c:noMultiLvlLbl val="0"/>
      </c:catAx>
      <c:valAx>
        <c:axId val="516939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7257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E86F-299D-422E-A74B-5E51A10CC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A560-2324-48D7-9633-35F49EFE0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8E34-7919-4D81-A5B2-EB7A063D5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E1CE-B0F4-450E-BBD5-0C6CA6AF8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916E-DDE1-4093-8795-F81D0853B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9FB7-4E01-400D-A8AF-2F296C67E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9FB3-D3A3-4B0F-A0F8-DF69A9176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84B1-65E3-49D0-A4BD-6FBBF26A3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FDE8-E051-4627-8C86-610E25368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5F85-8F8B-48C4-A9BB-A9E930F0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03D1-6379-48C3-9FED-0CB277AB4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2601-BE37-4B50-8F81-20ED3D302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100318-0286-478F-8458-6229D8211B5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