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569"/>
        <c:axId val="83673431"/>
      </c:barChart>
      <c:catAx>
        <c:axId val="591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73431"/>
        <c:crosses val="autoZero"/>
        <c:auto val="1"/>
        <c:lblAlgn val="ctr"/>
        <c:lblOffset val="100"/>
        <c:noMultiLvlLbl val="0"/>
      </c:catAx>
      <c:valAx>
        <c:axId val="83673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452-6903-44E5-922D-9BE8272E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DFC-9D2C-4DEE-8156-76848283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060-73BB-4547-AF61-F5807EE9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D6E-6CB6-44D5-BE74-E20B70FF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81A-14B6-4C0B-9BD1-C6B44341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05B-7697-40B5-B98F-1E3833F3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7BB-5FF4-4607-999B-0446E532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A4E-6B0D-4B9D-A43E-29310A46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1D4-55D4-42F4-B3A1-BE7FAB73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83C-44A3-41F3-8E03-69094EE6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97E-9D98-492D-AE52-035E282F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206-6698-4DF3-B497-2F9FBBCB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95EA3-6D1A-46DA-91FB-C437A343BF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