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83076"/>
        <c:axId val="47805885"/>
      </c:barChart>
      <c:catAx>
        <c:axId val="98583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05885"/>
        <c:crosses val="autoZero"/>
        <c:auto val="1"/>
        <c:lblAlgn val="ctr"/>
        <c:lblOffset val="100"/>
        <c:noMultiLvlLbl val="0"/>
      </c:catAx>
      <c:valAx>
        <c:axId val="47805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83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458-4BD2-4890-B9E2-EE85CD88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20B-EF8C-4BE1-A03F-EB135FA4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D13-C451-4BD1-9961-3C430C8E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001-E937-4C80-9B72-D75F2CA5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1AE-FFB9-42EB-A6F1-08B792F5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439-78C9-41CA-9C4D-CE1C836D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321-FF60-43BD-B353-DF990D2A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530-7753-4054-ACE4-09114444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36D-D057-4896-8C36-7B8888DD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3FE-2596-416A-8EA4-47AC7A2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E74-A08D-4BE2-AB52-AF835F66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763-FFB7-475E-BF7B-E8602D94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D32F3-E378-456A-A255-0732EC5E2E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