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471630"/>
        <c:axId val="70588361"/>
      </c:barChart>
      <c:catAx>
        <c:axId val="79471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88361"/>
        <c:crosses val="autoZero"/>
        <c:auto val="1"/>
        <c:lblAlgn val="ctr"/>
        <c:lblOffset val="100"/>
        <c:noMultiLvlLbl val="0"/>
      </c:catAx>
      <c:valAx>
        <c:axId val="705883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71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7D5-E189-4BFC-BE8B-EFA8A9AB9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627-B169-4AC6-A686-6A1F445C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3C1-BCFE-4A15-97A5-9228E2D9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E17-E23B-409A-AF08-97F40FAF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4088-7DDC-4DE2-A1D9-131384F2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59BF-67DC-415B-875C-93843BE8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453-1640-4CB6-9EA7-3E982326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02FE-BC89-47B1-91EC-FAA7DCF3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950D-98FD-4FD9-B4CB-5F3BB5753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A0A3-016F-437A-9367-B500268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4390-9D51-4505-8E87-9DBD6E6E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F14-67F4-4C0A-B1A0-10F1813D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745A59-5892-43C1-A448-41B66FC11F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