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319942"/>
        <c:axId val="29974820"/>
      </c:barChart>
      <c:catAx>
        <c:axId val="373199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74820"/>
        <c:crosses val="autoZero"/>
        <c:auto val="1"/>
        <c:lblAlgn val="ctr"/>
        <c:lblOffset val="100"/>
        <c:noMultiLvlLbl val="0"/>
      </c:catAx>
      <c:valAx>
        <c:axId val="299748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199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0EB1-3142-4A4F-BF4E-ADE6EF0E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9039-2723-4BDC-A6D4-75DC036B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DB41-086D-4AC7-AF40-34777B03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F40F-249D-461D-9EF6-859808F6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19B3-D6FB-4B1E-B96B-17F988FD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B3AA-3CE2-4EFA-82D5-E9A84E23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BFE1-432C-45C4-81E8-B71C8E2A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B7E6-83D6-4CFA-A223-0328A224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A370-FC8F-4CE6-AF7C-6FE5F8A8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5D54-BA32-44D7-BA4F-37F196E4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CA61-0DF1-4C22-8790-649EC659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461C-D66B-4932-8F02-54376B13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53683-3E9E-4652-8223-16575F51E6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