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34747"/>
        <c:axId val="16385823"/>
      </c:barChart>
      <c:catAx>
        <c:axId val="68534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85823"/>
        <c:crosses val="autoZero"/>
        <c:auto val="1"/>
        <c:lblAlgn val="ctr"/>
        <c:lblOffset val="100"/>
        <c:noMultiLvlLbl val="0"/>
      </c:catAx>
      <c:valAx>
        <c:axId val="16385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4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99A-D340-4731-A1D0-36B7A87E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50A-99E8-4592-8475-A8358A18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415-369E-49FB-8BC8-AA99778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AC7-5EC0-4766-9C73-FA113093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EAD-26B1-4243-90D6-8BC731F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7B6-A1CD-4B2C-A453-0E34BBC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4BF-E362-45B6-898C-2EA6FD54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4D3-68D4-4675-814A-9363D12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D04-AFCB-40B5-9099-A8F6F6F9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A9A-64D8-4BEA-BABF-88CE252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85A-6FA4-4C0F-A27B-0D195CE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716-FEFF-44B1-8E1E-5C570AEA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6C01A-20E1-421F-BB2F-4E3E09166E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