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67012"/>
        <c:axId val="2428048"/>
      </c:barChart>
      <c:catAx>
        <c:axId val="84267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8048"/>
        <c:crosses val="autoZero"/>
        <c:auto val="1"/>
        <c:lblAlgn val="ctr"/>
        <c:lblOffset val="100"/>
        <c:noMultiLvlLbl val="0"/>
      </c:catAx>
      <c:valAx>
        <c:axId val="2428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7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A69-2F88-4383-AE8A-3399C802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290-A1DD-4BBB-B485-EFB86C25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A07-9104-41AF-B62B-6B7925CF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457-177F-4E61-99BC-720AA7B1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E83-8151-4BA6-A141-07D37371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B08-931E-435C-B583-711E1737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FBC-F8A2-480D-B267-0FFDF06A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FAA-59CB-4539-9FD6-6A6150BD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892-1859-43AE-B352-263A3F8C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C15-BC3E-426E-BD5D-7728AAFD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22C-63B8-40D3-B466-593B1446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350-700B-458F-B6D2-CC3FF6F4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847CB-D38E-414E-A0F2-35020FEC30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